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2B1-2DF2-4B9B-AC0F-DC1B5BCC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1FE-4011-4277-A960-CF702840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D53-10D2-4FDD-AB3B-EC9443C8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A2E-0F6E-4E62-AEC0-9F1E41F4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E2A5-75DE-4D8D-8676-E2FDADBC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4C86-0E38-45CB-9EED-B19ED593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2E29-6FBD-4B71-B64B-8761E46C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3875-6199-4DCB-A5E6-413EC925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699F-32F5-46CE-A2CA-6CAB2902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DA7B-DC5A-48CE-9ECA-A11E91F8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C522-FDFF-464C-B522-1A0481A8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8D45-0D4D-4038-96A5-91F4CAB5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3864-7B6F-4602-988F-7556062A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0320-001E-4EFB-8B1C-60F1C33D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328F-6BA5-4857-97F9-CCEF1A14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F752-9FF2-4482-B928-7AF53396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56D6-AEE4-41DB-8948-153AA3ED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3A36-B735-4A09-B441-AC71C299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C77-BF3C-4D26-9CDB-75F49699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6AD-66BA-48EB-AC63-4664D825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57BC-879D-4397-B093-C0CD85A1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FC0-247E-4D8F-8AA3-65387452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E9F-1BBD-4B36-8F3B-ECE01051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E47-81F0-43A8-84AA-797BBD2B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99D0-97DB-4EAD-92A4-2F6B482893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6D68-6F6D-4589-B59C-2286712B38B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990720"/>
            <a:ext cx="708660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15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  <a:ea typeface="Arial"/>
              </a:rPr>
              <a:t>VBA-Makros für PowerPoint 2000 </a:t>
            </a:r>
            <a:r>
              <a:rPr b="0" lang="en-US" sz="1200" spc="-1" strike="noStrike" baseline="30000">
                <a:solidFill>
                  <a:srgbClr val="40458c"/>
                </a:solidFill>
                <a:latin typeface="Arial"/>
                <a:ea typeface="Arial"/>
              </a:rPr>
              <a:t>© 2000, Ralf Nebel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62120" y="1752480"/>
            <a:ext cx="6037200" cy="1838520"/>
            <a:chOff x="762120" y="1752480"/>
            <a:chExt cx="6037200" cy="1838520"/>
          </a:xfrm>
        </p:grpSpPr>
        <p:grpSp>
          <p:nvGrpSpPr>
            <p:cNvPr id="209" name=""/>
            <p:cNvGrpSpPr/>
            <p:nvPr/>
          </p:nvGrpSpPr>
          <p:grpSpPr>
            <a:xfrm>
              <a:off x="766800" y="1757520"/>
              <a:ext cx="6027840" cy="1828800"/>
              <a:chOff x="766800" y="1757520"/>
              <a:chExt cx="6027840" cy="182880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766800" y="1757520"/>
                <a:ext cx="6027840" cy="609480"/>
                <a:chOff x="766800" y="1757520"/>
                <a:chExt cx="6027840" cy="6094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66800" y="1757520"/>
                  <a:ext cx="6027840" cy="609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" name=""/>
                <p:cNvGrpSpPr/>
                <p:nvPr/>
              </p:nvGrpSpPr>
              <p:grpSpPr>
                <a:xfrm>
                  <a:off x="766800" y="1757520"/>
                  <a:ext cx="6027840" cy="609480"/>
                  <a:chOff x="766800" y="1757520"/>
                  <a:chExt cx="6027840" cy="6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811080" y="1757520"/>
                    <a:ext cx="5938920" cy="609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MAKRO</a:t>
                    </a:r>
                    <a:endParaRPr b="0" lang="en-US" sz="1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66800" y="1757520"/>
                    <a:ext cx="602784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766800" y="2367000"/>
                <a:ext cx="1844640" cy="1219320"/>
                <a:chOff x="766800" y="2367000"/>
                <a:chExt cx="1844640" cy="12193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811080" y="2367000"/>
                  <a:ext cx="17560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XLBlattEinfügen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66800" y="2367000"/>
                  <a:ext cx="18446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2611440" y="2367000"/>
                <a:ext cx="4183200" cy="1219320"/>
                <a:chOff x="2611440" y="2367000"/>
                <a:chExt cx="4183200" cy="12193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656080" y="2367000"/>
                  <a:ext cx="40939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Fügt ein Arbeitsmappenblatt (Diagramm oder Tabelle) aus einer per Dialogfeld wählbaren XLS-Datei als neue Folie ein.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611440" y="2367000"/>
                  <a:ext cx="41832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1" name=""/>
            <p:cNvSpPr/>
            <p:nvPr/>
          </p:nvSpPr>
          <p:spPr>
            <a:xfrm>
              <a:off x="762120" y="1752480"/>
              <a:ext cx="6037200" cy="1838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257800" y="3124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Makro starte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06:57:01Z</dcterms:created>
  <dc:creator>Ralf Nebelo</dc:creator>
  <dc:description/>
  <dc:language>en-US</dc:language>
  <cp:lastModifiedBy>Ralf Nebelo</cp:lastModifiedBy>
  <dcterms:modified xsi:type="dcterms:W3CDTF">2000-04-04T12:30:56Z</dcterms:modified>
  <cp:revision>41</cp:revision>
  <dc:subject/>
  <dc:title>PowerPoint-Präsentation</dc:title>
</cp:coreProperties>
</file>